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2D7A-97D6-4326-9773-E05E6FCC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69B-169C-485A-B198-FBD6A6BC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5A3-8731-4627-90BD-387A8B66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688-56EA-4E9F-9392-F0B9287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A5C-4980-41F6-9694-E12118AC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09F-47A0-41C1-85BB-9FC4C7CC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D4B6-91CC-4749-91EC-4209BC5A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40BE-2F75-4607-9264-E3253274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0107-F7CC-4032-9207-4413B210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7D2C-8736-4B3E-8A42-63F7A156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16A8-773B-474A-AB96-FB49E01C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0CC5-1A5E-41F0-BFA8-60CA06F4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61E8-4648-41D8-93C3-1BEBDCB4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5F0-FDED-4A25-A5B0-B07B6577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CC57-81DB-40BC-BA7D-D3BD8497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C5B5-6DED-47CC-B83C-C3746F85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C2BD-F8AE-4D32-BE7E-746E046C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2A18-DF94-4D2F-9B4E-E2A738C2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6E76-ADF8-49EC-BA89-933293CC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E9F-62C2-456F-873D-A76A9BAB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B0E-08E5-4F58-8EA1-C3CC2115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3B2-7A7A-4E33-8B2F-D915F74C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03B-0FE3-446A-B209-C6512FC0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902-DE99-4F26-924E-EDEDB6E0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57A-E748-4DC3-9430-290EAFD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14D-8E57-41CD-82E0-40A81A9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19F9-7420-4236-A407-E3AC190F6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2CFE-D1BA-4778-B034-732F57BD6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33520" y="1752480"/>
          <a:ext cx="8076960" cy="453096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-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1f497d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60" descr="j0078625"/>
          <p:cNvPicPr/>
          <p:nvPr/>
        </p:nvPicPr>
        <p:blipFill>
          <a:blip r:embed="rId1"/>
          <a:stretch/>
        </p:blipFill>
        <p:spPr>
          <a:xfrm>
            <a:off x="914400" y="0"/>
            <a:ext cx="42696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Dreptunghi 5" descr=""/>
          <p:cNvPicPr/>
          <p:nvPr/>
        </p:nvPicPr>
        <p:blipFill>
          <a:blip r:embed="rId2"/>
          <a:stretch/>
        </p:blipFill>
        <p:spPr>
          <a:xfrm>
            <a:off x="1219320" y="291960"/>
            <a:ext cx="65466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user</cp:lastModifiedBy>
  <dcterms:modified xsi:type="dcterms:W3CDTF">2012-05-13T15:32:37Z</dcterms:modified>
  <cp:revision>17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